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EB9F-FAC2-4613-A41C-595ED0CB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1D1-59E1-483F-8518-DF38871E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EB23-F77B-4B61-85D9-8F812F99C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49FE-6FFF-420C-81BB-E7CD1F327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D4ED-D8B8-4B7A-9A82-7EC78FED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829-995D-4A57-BB22-6267250D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D837-CCD3-4C7F-8BC3-362BC15D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9588-8D12-4325-88F6-CBAF0A70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755-3FD4-47FB-9EBB-A98BFCA0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A20-54C9-4541-A9C8-11BF2BE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E070-C692-499E-A246-7FBB560D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E9A6-4973-40B7-8548-4FBFEE4F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26F1-094E-49B7-91BC-4E4889CDB1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744480"/>
            <a:ext cx="8381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Формула П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озволит вам с необычайной легкостью находить площадь любого многоугольника на клетчатой бумаге с целочисленными вершин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нно такие задания предлагают в В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Площадь многоугольника с целочисленными вершинами рав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де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— количество целочисленных точек внутри многоугольника, а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ула Пика очень удобна когда сложно догадаться, как разбить фигуру на удобные многоугольники или достроит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43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50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55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58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61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3428640" y="2819520"/>
            <a:ext cx="1895040" cy="1044720"/>
            <a:chOff x="3428640" y="2819520"/>
            <a:chExt cx="1895040" cy="1044720"/>
          </a:xfrm>
        </p:grpSpPr>
        <p:sp>
          <p:nvSpPr>
            <p:cNvPr id="64" name=""/>
            <p:cNvSpPr/>
            <p:nvPr/>
          </p:nvSpPr>
          <p:spPr>
            <a:xfrm>
              <a:off x="4194000" y="3352680"/>
              <a:ext cx="4064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58840" y="3090600"/>
              <a:ext cx="56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– </a:t>
              </a: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271760" y="3376440"/>
              <a:ext cx="226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22840" y="3106440"/>
              <a:ext cx="2383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255920" y="2819520"/>
              <a:ext cx="23076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428640" y="3105000"/>
              <a:ext cx="2948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80880" y="22824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мотрим, как применить формулу для вычисления площад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ощадь многоугольника с целочисленными вершинами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72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79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84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87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90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"/>
          <p:cNvGrpSpPr/>
          <p:nvPr/>
        </p:nvGrpSpPr>
        <p:grpSpPr>
          <a:xfrm>
            <a:off x="4267080" y="2590920"/>
            <a:ext cx="3733560" cy="3685320"/>
            <a:chOff x="4267080" y="2590920"/>
            <a:chExt cx="3733560" cy="3685320"/>
          </a:xfrm>
        </p:grpSpPr>
        <p:grpSp>
          <p:nvGrpSpPr>
            <p:cNvPr id="93" name=""/>
            <p:cNvGrpSpPr/>
            <p:nvPr/>
          </p:nvGrpSpPr>
          <p:grpSpPr>
            <a:xfrm>
              <a:off x="4267080" y="2590920"/>
              <a:ext cx="3733560" cy="3685320"/>
              <a:chOff x="4267080" y="2590920"/>
              <a:chExt cx="3733560" cy="3685320"/>
            </a:xfrm>
          </p:grpSpPr>
          <p:sp>
            <p:nvSpPr>
              <p:cNvPr id="94" name=""/>
              <p:cNvSpPr/>
              <p:nvPr/>
            </p:nvSpPr>
            <p:spPr>
              <a:xfrm>
                <a:off x="4267080" y="5746680"/>
                <a:ext cx="3731760" cy="216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267080" y="259092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267080" y="311616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267080" y="36432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267080" y="41688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67080" y="469620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267080" y="522396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267080" y="6276240"/>
                <a:ext cx="37335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4267080" y="2590920"/>
              <a:ext cx="3707280" cy="3646440"/>
              <a:chOff x="4267080" y="2590920"/>
              <a:chExt cx="3707280" cy="3646440"/>
            </a:xfrm>
          </p:grpSpPr>
          <p:sp>
            <p:nvSpPr>
              <p:cNvPr id="103" name=""/>
              <p:cNvSpPr/>
              <p:nvPr/>
            </p:nvSpPr>
            <p:spPr>
              <a:xfrm>
                <a:off x="47984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258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5720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38460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44264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974360" y="2590920"/>
                <a:ext cx="0" cy="36464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04800" y="2600640"/>
                <a:ext cx="10440" cy="363672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267080" y="2600640"/>
                <a:ext cx="1800" cy="363348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"/>
          <p:cNvSpPr/>
          <p:nvPr/>
        </p:nvSpPr>
        <p:spPr>
          <a:xfrm>
            <a:off x="4799160" y="3117960"/>
            <a:ext cx="2647800" cy="2630520"/>
          </a:xfrm>
          <a:custGeom>
            <a:avLst/>
            <a:gdLst/>
            <a:ahLst/>
            <a:rect l="l" t="t" r="r" b="b"/>
            <a:pathLst>
              <a:path w="1668" h="1657">
                <a:moveTo>
                  <a:pt x="1326" y="0"/>
                </a:moveTo>
                <a:lnTo>
                  <a:pt x="0" y="658"/>
                </a:lnTo>
                <a:lnTo>
                  <a:pt x="664" y="1657"/>
                </a:lnTo>
                <a:lnTo>
                  <a:pt x="1668" y="663"/>
                </a:lnTo>
                <a:lnTo>
                  <a:pt x="1326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57800" y="41004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40957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296040" y="41004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53320" y="408132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0" y="3562200"/>
            <a:ext cx="15264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96040" y="35528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6054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96040" y="46101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13396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72200" y="4633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24382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2760" y="354492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19600" y="407988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65760" y="566424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311880" y="515628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45400" y="4622760"/>
            <a:ext cx="15228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78560" y="410220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32440" y="3048120"/>
            <a:ext cx="152640" cy="1522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47920" y="30481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8883600">
            <a:off x="6778440" y="3038040"/>
            <a:ext cx="260280" cy="155520"/>
          </a:xfrm>
          <a:prstGeom prst="rightArrow">
            <a:avLst>
              <a:gd name="adj1" fmla="val 50000"/>
              <a:gd name="adj2" fmla="val 4184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4920" y="3962520"/>
                <a:ext cx="14475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05120" y="4191120"/>
                <a:ext cx="190980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,5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43200" y="4876920"/>
                <a:ext cx="98568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,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35" name=""/>
          <p:cNvGrpSpPr/>
          <p:nvPr/>
        </p:nvGrpSpPr>
        <p:grpSpPr>
          <a:xfrm>
            <a:off x="533520" y="5867280"/>
            <a:ext cx="3671640" cy="691920"/>
            <a:chOff x="533520" y="5867280"/>
            <a:chExt cx="3671640" cy="691920"/>
          </a:xfrm>
        </p:grpSpPr>
        <p:grpSp>
          <p:nvGrpSpPr>
            <p:cNvPr id="136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137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28520" y="591660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63440" y="587196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462040" y="587052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500"/>
                            </p:stCondLst>
                            <p:childTnLst>
                              <p:par>
                                <p:cTn id="5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00"/>
                            </p:stCondLst>
                            <p:childTnLst>
                              <p:par>
                                <p:cTn id="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85185E-006 L -0.0382 0.02523 L -0.09636 0.06435 E">
                                      <p:cBhvr>
                                        <p:cTn id="8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688 0.06412 L -0.17709 0.11875 L -0.20973 0.13634 E">
                                      <p:cBhvr>
                                        <p:cTn id="9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921 0.13727 L -0.2191 0.14329 L -0.23108 0.15231 E">
                                      <p:cBhvr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1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108 0.15185 L -0.17917 0.25486 L -0.12657 0.36204 E">
                                      <p:cBhvr>
                                        <p:cTn id="11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500"/>
                            </p:stCondLst>
                            <p:childTnLst>
                              <p:par>
                                <p:cTn id="11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9000"/>
                            </p:stCondLst>
                            <p:childTnLst>
                              <p:par>
                                <p:cTn id="1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56 0.36204 L -0.12188 0.36967 L -0.1158 0.38241 E">
                                      <p:cBhvr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500"/>
                            </p:stCondLst>
                            <p:childTnLst>
                              <p:par>
                                <p:cTn id="12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6120000">
                                      <p:cBhvr>
                                        <p:cTn id="1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528 0.38264 L -0.08195 0.34004 L -0.07118 0.32454 L -0.07223 0.32338 E">
                                      <p:cBhvr>
                                        <p:cTn id="12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18 0.32407 L -0.03889 0.28264 L -0.01112 0.24745 E">
                                      <p:cBhvr>
                                        <p:cTn id="13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2 0.24745 L 0.02777 0.19375 L 0.0434 0.17407 E">
                                      <p:cBhvr>
                                        <p:cTn id="147" dur="1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75 0.17477 L 0.05121 0.16366 L 0.0592 0.15278 E">
                                      <p:cBhvr>
                                        <p:cTn id="15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">
                                      <p:cBhvr>
                                        <p:cTn id="16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54 0.15393 L 0.02638 0.06782 L 0.00694 0.01967 E">
                                      <p:cBhvr>
                                        <p:cTn id="16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16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4267080" y="1447920"/>
            <a:ext cx="4647960" cy="4609800"/>
            <a:chOff x="4267080" y="1447920"/>
            <a:chExt cx="4647960" cy="4609800"/>
          </a:xfrm>
        </p:grpSpPr>
        <p:grpSp>
          <p:nvGrpSpPr>
            <p:cNvPr id="157" name=""/>
            <p:cNvGrpSpPr/>
            <p:nvPr/>
          </p:nvGrpSpPr>
          <p:grpSpPr>
            <a:xfrm>
              <a:off x="4267080" y="1447920"/>
              <a:ext cx="4631760" cy="4581000"/>
              <a:chOff x="4267080" y="1447920"/>
              <a:chExt cx="4631760" cy="4581000"/>
            </a:xfrm>
          </p:grpSpPr>
          <p:sp>
            <p:nvSpPr>
              <p:cNvPr id="158" name=""/>
              <p:cNvSpPr/>
              <p:nvPr/>
            </p:nvSpPr>
            <p:spPr>
              <a:xfrm>
                <a:off x="46882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058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5270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9446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7834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204680" y="1447920"/>
                <a:ext cx="0" cy="457704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357240" y="1459440"/>
                <a:ext cx="8640" cy="45651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267080" y="1459440"/>
                <a:ext cx="1080" cy="456120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388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4776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898840" y="1451520"/>
                <a:ext cx="0" cy="457740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51040" y="1463400"/>
                <a:ext cx="8640" cy="456516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" name=""/>
            <p:cNvGrpSpPr/>
            <p:nvPr/>
          </p:nvGrpSpPr>
          <p:grpSpPr>
            <a:xfrm>
              <a:off x="4267080" y="1475280"/>
              <a:ext cx="4647960" cy="4582440"/>
              <a:chOff x="4267080" y="1475280"/>
              <a:chExt cx="4647960" cy="4582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267080" y="5637600"/>
                <a:ext cx="4646160" cy="252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267080" y="313776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67080" y="355392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267080" y="397116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267080" y="43876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267080" y="48052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267080" y="522360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267080" y="605772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267080" y="147528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267080" y="189144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267080" y="230904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267080" y="2725200"/>
                <a:ext cx="4647960" cy="0"/>
              </a:xfrm>
              <a:prstGeom prst="line">
                <a:avLst/>
              </a:prstGeom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"/>
          <p:cNvSpPr/>
          <p:nvPr/>
        </p:nvSpPr>
        <p:spPr>
          <a:xfrm>
            <a:off x="380880" y="242280"/>
            <a:ext cx="8382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185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192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197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200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203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"/>
          <p:cNvSpPr/>
          <p:nvPr/>
        </p:nvSpPr>
        <p:spPr>
          <a:xfrm>
            <a:off x="5524560" y="1890720"/>
            <a:ext cx="2959200" cy="1677960"/>
          </a:xfrm>
          <a:custGeom>
            <a:avLst/>
            <a:gdLst/>
            <a:ahLst/>
            <a:rect l="l" t="t" r="r" b="b"/>
            <a:pathLst>
              <a:path w="1864" h="1057">
                <a:moveTo>
                  <a:pt x="1862" y="0"/>
                </a:moveTo>
                <a:lnTo>
                  <a:pt x="0" y="529"/>
                </a:lnTo>
                <a:lnTo>
                  <a:pt x="1864" y="1057"/>
                </a:lnTo>
                <a:lnTo>
                  <a:pt x="522" y="525"/>
                </a:lnTo>
                <a:lnTo>
                  <a:pt x="1862" y="0"/>
                </a:lnTo>
                <a:close/>
              </a:path>
            </a:pathLst>
          </a:custGeom>
          <a:solidFill>
            <a:srgbClr val="ffff00">
              <a:alpha val="41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438280"/>
            <a:ext cx="79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=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3048120"/>
            <a:ext cx="75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ff"/>
                </a:solidFill>
                <a:latin typeface="Arial"/>
              </a:rPr>
              <a:t>Г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380880" y="3962520"/>
                <a:ext cx="1293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828800" y="4221000"/>
                <a:ext cx="15080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429000" y="4229280"/>
                <a:ext cx="585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11" name=""/>
          <p:cNvGrpSpPr/>
          <p:nvPr/>
        </p:nvGrpSpPr>
        <p:grpSpPr>
          <a:xfrm>
            <a:off x="533520" y="5867280"/>
            <a:ext cx="3671640" cy="690480"/>
            <a:chOff x="533520" y="5867280"/>
            <a:chExt cx="3671640" cy="690480"/>
          </a:xfrm>
        </p:grpSpPr>
        <p:grpSp>
          <p:nvGrpSpPr>
            <p:cNvPr id="212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213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828520" y="591660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63440" y="58719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620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905440" y="2666880"/>
            <a:ext cx="90720" cy="9540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75520" y="2273400"/>
            <a:ext cx="90360" cy="950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62920" y="3086280"/>
            <a:ext cx="90360" cy="95040"/>
          </a:xfrm>
          <a:prstGeom prst="ellipse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5486400" y="2666880"/>
            <a:ext cx="117360" cy="11772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8407440" y="3498840"/>
            <a:ext cx="11736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6307920" y="2673360"/>
            <a:ext cx="11772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8458200" y="1828800"/>
            <a:ext cx="117360" cy="11736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9822000">
            <a:off x="8317800" y="1816200"/>
            <a:ext cx="260280" cy="155520"/>
          </a:xfrm>
          <a:prstGeom prst="rightArrow">
            <a:avLst>
              <a:gd name="adj1" fmla="val 50000"/>
              <a:gd name="adj2" fmla="val 41840"/>
            </a:avLst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3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59259E-006 L -0.13715 0.05254 L -0.28854 0.10903 E">
                                      <p:cBhvr>
                                        <p:cTn id="232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854 0.10903 L -0.30104 0.11551 L -0.3184 0.12199 E">
                                      <p:cBhvr>
                                        <p:cTn id="242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880000">
                                      <p:cBhvr>
                                        <p:cTn id="2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71 0.12291 L -0.2191 0.15903 L -0.01979 0.23495 E">
                                      <p:cBhvr>
                                        <p:cTn id="248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5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5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79 0.23495 L -0.01076 0.23819 L 0.00278 0.24328 E">
                                      <p:cBhvr>
                                        <p:cTn id="258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000"/>
                            </p:stCondLst>
                            <p:childTnLst>
                              <p:par>
                                <p:cTn id="26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020000">
                                      <p:cBhvr>
                                        <p:cTn id="2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24421 L -0.09965 0.18958 L -0.20938 0.1331 E">
                                      <p:cBhvr>
                                        <p:cTn id="264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9500"/>
                            </p:stCondLst>
                            <p:childTnLst>
                              <p:par>
                                <p:cTn id="2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066 0.1331 L -0.21563 0.12754 L -0.23021 0.12106 E">
                                      <p:cBhvr>
                                        <p:cTn id="274" dur="5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7800000">
                                      <p:cBhvr>
                                        <p:cTn id="27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2952 0.12014 L -0.13854 0.07477 L -0.01198 0.00926 E">
                                      <p:cBhvr>
                                        <p:cTn id="28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28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ffff"/>
            </a:gs>
            <a:gs pos="50000">
              <a:srgbClr val="ffffff"/>
            </a:gs>
            <a:gs pos="100000">
              <a:srgbClr val="dd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533520" y="228240"/>
            <a:ext cx="838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ощадь многоугольника с целочисленными вершинами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2 −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— есть количество целочисленных точек внутри многоугольника,  </a:t>
            </a:r>
            <a:br>
              <a:rPr sz="2000"/>
            </a:b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 — количество целочисленных точек на границе много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-489600" y="-482400"/>
            <a:ext cx="10116720" cy="7800840"/>
            <a:chOff x="-489600" y="-482400"/>
            <a:chExt cx="10116720" cy="7800840"/>
          </a:xfrm>
        </p:grpSpPr>
        <p:sp>
          <p:nvSpPr>
            <p:cNvPr id="242" name=""/>
            <p:cNvSpPr/>
            <p:nvPr/>
          </p:nvSpPr>
          <p:spPr>
            <a:xfrm>
              <a:off x="566640" y="111240"/>
              <a:ext cx="8001000" cy="7920"/>
            </a:xfrm>
            <a:custGeom>
              <a:avLst/>
              <a:gdLst/>
              <a:ahLst/>
              <a:rect l="l" t="t" r="r" b="b"/>
              <a:pathLst>
                <a:path w="5040" h="5">
                  <a:moveTo>
                    <a:pt x="5040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9120" y="46080"/>
              <a:ext cx="8099280" cy="4680"/>
            </a:xfrm>
            <a:custGeom>
              <a:avLst/>
              <a:gdLst/>
              <a:ahLst/>
              <a:rect l="l" t="t" r="r" b="b"/>
              <a:pathLst>
                <a:path w="5102" h="3">
                  <a:moveTo>
                    <a:pt x="5102" y="0"/>
                  </a:moveTo>
                  <a:lnTo>
                    <a:pt x="0" y="3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12680" y="574560"/>
              <a:ext cx="9720" cy="5683320"/>
            </a:xfrm>
            <a:custGeom>
              <a:avLst/>
              <a:gdLst/>
              <a:ahLst/>
              <a:rect l="l" t="t" r="r" b="b"/>
              <a:pathLst>
                <a:path w="6" h="3580">
                  <a:moveTo>
                    <a:pt x="6" y="3580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760" y="533520"/>
              <a:ext cx="4680" cy="5779800"/>
            </a:xfrm>
            <a:custGeom>
              <a:avLst/>
              <a:gdLst/>
              <a:ahLst/>
              <a:rect l="l" t="t" r="r" b="b"/>
              <a:pathLst>
                <a:path w="3" h="3641">
                  <a:moveTo>
                    <a:pt x="3" y="3641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9880" y="6705720"/>
              <a:ext cx="8001000" cy="2880"/>
            </a:xfrm>
            <a:custGeom>
              <a:avLst/>
              <a:gdLst/>
              <a:ahLst/>
              <a:rect l="l" t="t" r="r" b="b"/>
              <a:pathLst>
                <a:path w="5040" h="2">
                  <a:moveTo>
                    <a:pt x="5040" y="0"/>
                  </a:moveTo>
                  <a:lnTo>
                    <a:pt x="0" y="2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9120" y="6781680"/>
              <a:ext cx="8104320" cy="7920"/>
            </a:xfrm>
            <a:custGeom>
              <a:avLst/>
              <a:gdLst/>
              <a:ahLst/>
              <a:rect l="l" t="t" r="r" b="b"/>
              <a:pathLst>
                <a:path w="5105" h="5">
                  <a:moveTo>
                    <a:pt x="5105" y="0"/>
                  </a:moveTo>
                  <a:lnTo>
                    <a:pt x="0" y="5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8490960" y="6175440"/>
              <a:ext cx="1136160" cy="1135080"/>
              <a:chOff x="8490960" y="6175440"/>
              <a:chExt cx="1136160" cy="1135080"/>
            </a:xfrm>
          </p:grpSpPr>
          <p:sp>
            <p:nvSpPr>
              <p:cNvPr id="249" name=""/>
              <p:cNvSpPr/>
              <p:nvPr/>
            </p:nvSpPr>
            <p:spPr>
              <a:xfrm flipH="1" flipV="1" rot="5937000">
                <a:off x="8562600" y="6245640"/>
                <a:ext cx="992520" cy="993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flipV="1" rot="5937000">
                <a:off x="8618040" y="6305040"/>
                <a:ext cx="931320" cy="92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9013680" y="571680"/>
              <a:ext cx="5040" cy="5686200"/>
            </a:xfrm>
            <a:custGeom>
              <a:avLst/>
              <a:gdLst/>
              <a:ahLst/>
              <a:rect l="l" t="t" r="r" b="b"/>
              <a:pathLst>
                <a:path w="3" h="3582">
                  <a:moveTo>
                    <a:pt x="3" y="358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9085320" y="519120"/>
              <a:ext cx="1440" cy="5781600"/>
            </a:xfrm>
            <a:custGeom>
              <a:avLst/>
              <a:gdLst/>
              <a:ahLst/>
              <a:rect l="l" t="t" r="r" b="b"/>
              <a:pathLst>
                <a:path w="1" h="3642">
                  <a:moveTo>
                    <a:pt x="1" y="3642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-489600" y="-478800"/>
              <a:ext cx="1135440" cy="1134720"/>
              <a:chOff x="-489600" y="-478800"/>
              <a:chExt cx="1135440" cy="1134720"/>
            </a:xfrm>
          </p:grpSpPr>
          <p:sp>
            <p:nvSpPr>
              <p:cNvPr id="254" name=""/>
              <p:cNvSpPr/>
              <p:nvPr/>
            </p:nvSpPr>
            <p:spPr>
              <a:xfrm rot="5937000">
                <a:off x="-417960" y="-40788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5937000">
                <a:off x="-411120" y="-4028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8488440" y="-482400"/>
              <a:ext cx="1135440" cy="1135080"/>
              <a:chOff x="8488440" y="-482400"/>
              <a:chExt cx="1135440" cy="1135080"/>
            </a:xfrm>
          </p:grpSpPr>
          <p:sp>
            <p:nvSpPr>
              <p:cNvPr id="257" name=""/>
              <p:cNvSpPr/>
              <p:nvPr/>
            </p:nvSpPr>
            <p:spPr>
              <a:xfrm flipH="1" rot="15663000">
                <a:off x="8559720" y="-4111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 rot="15663000">
                <a:off x="8614080" y="-40608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-486360" y="6183360"/>
              <a:ext cx="1135440" cy="1135080"/>
              <a:chOff x="-486360" y="6183360"/>
              <a:chExt cx="1135440" cy="1135080"/>
            </a:xfrm>
          </p:grpSpPr>
          <p:sp>
            <p:nvSpPr>
              <p:cNvPr id="260" name=""/>
              <p:cNvSpPr/>
              <p:nvPr/>
            </p:nvSpPr>
            <p:spPr>
              <a:xfrm flipV="1" rot="15663000">
                <a:off x="-414720" y="6253920"/>
                <a:ext cx="992520" cy="993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845" y="42"/>
                    </a:moveTo>
                    <a:arcTo wR="10800" hR="10800" stAng="-5704424" swAng="49043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845" y="42"/>
                    </a:moveTo>
                    <a:arcTo wR="10800" hR="10800" stAng="-5704424" swAng="4904342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 rot="15663000">
                <a:off x="-407880" y="6312240"/>
                <a:ext cx="931320" cy="92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664" y="213"/>
                    </a:moveTo>
                    <a:arcTo wR="10800" hR="10800" stAng="-6084414" swAng="563618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664" y="213"/>
                    </a:moveTo>
                    <a:arcTo wR="10800" hR="10800" stAng="-6084414" swAng="5636189"/>
                  </a:path>
                </a:pathLst>
              </a:custGeom>
              <a:noFill/>
              <a:ln w="19080">
                <a:solidFill>
                  <a:srgbClr val="00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2" name=""/>
          <p:cNvGrpSpPr/>
          <p:nvPr/>
        </p:nvGrpSpPr>
        <p:grpSpPr>
          <a:xfrm>
            <a:off x="4572000" y="2209680"/>
            <a:ext cx="3733560" cy="3685680"/>
            <a:chOff x="4572000" y="2209680"/>
            <a:chExt cx="3733560" cy="3685680"/>
          </a:xfrm>
        </p:grpSpPr>
        <p:grpSp>
          <p:nvGrpSpPr>
            <p:cNvPr id="263" name=""/>
            <p:cNvGrpSpPr/>
            <p:nvPr/>
          </p:nvGrpSpPr>
          <p:grpSpPr>
            <a:xfrm>
              <a:off x="4572000" y="2209680"/>
              <a:ext cx="3733560" cy="3685680"/>
              <a:chOff x="4572000" y="2209680"/>
              <a:chExt cx="3733560" cy="3685680"/>
            </a:xfrm>
          </p:grpSpPr>
          <p:sp>
            <p:nvSpPr>
              <p:cNvPr id="264" name=""/>
              <p:cNvSpPr/>
              <p:nvPr/>
            </p:nvSpPr>
            <p:spPr>
              <a:xfrm>
                <a:off x="4572000" y="5365800"/>
                <a:ext cx="3731760" cy="2160"/>
              </a:xfrm>
              <a:custGeom>
                <a:avLst/>
                <a:gdLst/>
                <a:ahLst/>
                <a:rect l="l" t="t" r="r" b="b"/>
                <a:pathLst>
                  <a:path w="2449" h="1">
                    <a:moveTo>
                      <a:pt x="0" y="0"/>
                    </a:moveTo>
                    <a:lnTo>
                      <a:pt x="2449" y="0"/>
                    </a:lnTo>
                  </a:path>
                </a:pathLst>
              </a:custGeom>
              <a:noFill/>
              <a:ln w="32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572000" y="220968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572000" y="27349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572000" y="32619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572000" y="37879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572000" y="43149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572000" y="484272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2000" y="5895360"/>
                <a:ext cx="3733560" cy="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4572000" y="2209680"/>
              <a:ext cx="3707280" cy="3646800"/>
              <a:chOff x="4572000" y="2209680"/>
              <a:chExt cx="3707280" cy="3646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1033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6307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16212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68952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74756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279280" y="2209680"/>
                <a:ext cx="0" cy="3646800"/>
              </a:xfrm>
              <a:prstGeom prst="line">
                <a:avLst/>
              </a:prstGeom>
              <a:ln cap="rnd"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209720" y="2219400"/>
                <a:ext cx="10440" cy="3637080"/>
              </a:xfrm>
              <a:custGeom>
                <a:avLst/>
                <a:gdLst/>
                <a:ahLst/>
                <a:rect l="l" t="t" r="r" b="b"/>
                <a:pathLst>
                  <a:path w="5" h="2177">
                    <a:moveTo>
                      <a:pt x="5" y="2177"/>
                    </a:move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572000" y="2219400"/>
                <a:ext cx="1800" cy="3633840"/>
              </a:xfrm>
              <a:custGeom>
                <a:avLst/>
                <a:gdLst/>
                <a:ahLst/>
                <a:rect l="l" t="t" r="r" b="b"/>
                <a:pathLst>
                  <a:path w="1" h="2175">
                    <a:moveTo>
                      <a:pt x="0" y="2175"/>
                    </a:moveTo>
                    <a:lnTo>
                      <a:pt x="1" y="0"/>
                    </a:lnTo>
                  </a:path>
                </a:pathLst>
              </a:custGeom>
              <a:noFill/>
              <a:ln w="936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1" name=""/>
          <p:cNvSpPr/>
          <p:nvPr/>
        </p:nvSpPr>
        <p:spPr>
          <a:xfrm>
            <a:off x="5092560" y="2733840"/>
            <a:ext cx="1600200" cy="1581120"/>
          </a:xfrm>
          <a:custGeom>
            <a:avLst/>
            <a:gdLst/>
            <a:ahLst/>
            <a:rect l="l" t="t" r="r" b="b"/>
            <a:pathLst>
              <a:path w="1008" h="996">
                <a:moveTo>
                  <a:pt x="1008" y="664"/>
                </a:moveTo>
                <a:lnTo>
                  <a:pt x="0" y="0"/>
                </a:lnTo>
                <a:lnTo>
                  <a:pt x="674" y="996"/>
                </a:lnTo>
                <a:lnTo>
                  <a:pt x="338" y="330"/>
                </a:lnTo>
                <a:lnTo>
                  <a:pt x="1008" y="664"/>
                </a:lnTo>
                <a:close/>
              </a:path>
            </a:pathLst>
          </a:custGeom>
          <a:solidFill>
            <a:srgbClr val="ffff00">
              <a:alpha val="65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2438280"/>
            <a:ext cx="7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В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304812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Г =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380880" y="3962520"/>
                <a:ext cx="129384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1784520" y="4237200"/>
                <a:ext cx="10159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3127320" y="4237200"/>
                <a:ext cx="52380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87" name=""/>
          <p:cNvGrpSpPr/>
          <p:nvPr/>
        </p:nvGrpSpPr>
        <p:grpSpPr>
          <a:xfrm>
            <a:off x="533520" y="5867280"/>
            <a:ext cx="3671640" cy="690480"/>
            <a:chOff x="533520" y="5867280"/>
            <a:chExt cx="3671640" cy="690480"/>
          </a:xfrm>
        </p:grpSpPr>
        <p:grpSp>
          <p:nvGrpSpPr>
            <p:cNvPr id="288" name=""/>
            <p:cNvGrpSpPr/>
            <p:nvPr/>
          </p:nvGrpSpPr>
          <p:grpSpPr>
            <a:xfrm>
              <a:off x="2701800" y="6032520"/>
              <a:ext cx="918360" cy="376200"/>
              <a:chOff x="2701800" y="6032520"/>
              <a:chExt cx="918360" cy="376200"/>
            </a:xfrm>
          </p:grpSpPr>
          <p:sp>
            <p:nvSpPr>
              <p:cNvPr id="289" name=""/>
              <p:cNvSpPr/>
              <p:nvPr/>
            </p:nvSpPr>
            <p:spPr>
              <a:xfrm>
                <a:off x="2714040" y="6045480"/>
                <a:ext cx="383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64560" y="6032520"/>
                <a:ext cx="255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701800" y="6160680"/>
                <a:ext cx="380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11960" y="6162480"/>
                <a:ext cx="244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946240" y="6146640"/>
                <a:ext cx="25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33520" y="5941800"/>
              <a:ext cx="3671640" cy="542880"/>
            </a:xfrm>
            <a:prstGeom prst="rect">
              <a:avLst/>
            </a:prstGeom>
            <a:solidFill>
              <a:srgbClr val="ffcccc"/>
            </a:solidFill>
            <a:ln w="28440">
              <a:solidFill>
                <a:srgbClr val="ff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6520" y="5986440"/>
              <a:ext cx="823680" cy="455400"/>
            </a:xfrm>
            <a:prstGeom prst="bevel">
              <a:avLst>
                <a:gd name="adj" fmla="val 12500"/>
              </a:avLst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3600" y="6011640"/>
              <a:ext cx="69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В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5458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9044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4318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764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17760" y="5986440"/>
              <a:ext cx="38052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62000" y="5986440"/>
              <a:ext cx="379080" cy="45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60200" y="5911560"/>
              <a:ext cx="475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28520" y="591660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514160" y="5867280"/>
              <a:ext cx="47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63440" y="5871960"/>
              <a:ext cx="475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462040" y="5870520"/>
              <a:ext cx="4759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067360" y="269244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21440" y="426708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642000" y="3746520"/>
            <a:ext cx="76320" cy="76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00880" y="3225960"/>
            <a:ext cx="75960" cy="7596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ривет</cp:lastModifiedBy>
  <dcterms:modified xsi:type="dcterms:W3CDTF">2012-09-08T18:28:1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